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4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072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072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072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4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7617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76176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072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072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07280"/>
            <a:ext cx="2502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4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072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4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0728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44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072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0"/>
            <a:ext cx="9144000" cy="441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6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e7d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7d3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7d3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7d3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7d3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7d3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7d3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7d3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de7d3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86200" y="6705720"/>
            <a:ext cx="403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be0e3"/>
                </a:solidFill>
                <a:latin typeface="Arial"/>
              </a:rPr>
              <a:t>GMT Technical Reference and Cookbook, Appendix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149076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xamples of Rendered Images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52680" y="8380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52680" y="25909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352680" y="434340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867280" y="380880"/>
            <a:ext cx="8825040" cy="6091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49528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8 dpi without anti-aliasing (scaled 3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3200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 dpi without anti-aliasing (scaled 1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14479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 dpi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aliasing (scaled 12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5791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ded PDF (scaled 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52280" y="3581280"/>
            <a:ext cx="1508400" cy="1295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2286000"/>
            <a:ext cx="1524240" cy="838080"/>
          </a:xfrm>
          <a:prstGeom prst="wedgeRoundRectCallout">
            <a:avLst>
              <a:gd name="adj1" fmla="val 10106"/>
              <a:gd name="adj2" fmla="val 1147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scal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5181480"/>
            <a:ext cx="1524240" cy="762120"/>
          </a:xfrm>
          <a:prstGeom prst="wedgeRoundRectCallout">
            <a:avLst>
              <a:gd name="adj1" fmla="val -35416"/>
              <a:gd name="adj2" fmla="val -135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sel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7:41:27Z</dcterms:created>
  <dc:creator>Remko Scharroo</dc:creator>
  <dc:description>Prepared for Envisat CCVT Sixth plenary meeting</dc:description>
  <cp:keywords/>
  <dc:language>en-US</dc:language>
  <cp:lastModifiedBy>Remko Scharroo</cp:lastModifiedBy>
  <cp:lastPrinted>2007-03-20T22:33:24Z</cp:lastPrinted>
  <dcterms:modified xsi:type="dcterms:W3CDTF">2007-03-23T03:15:15Z</dcterms:modified>
  <cp:revision>189</cp:revision>
  <dc:subject/>
  <dc:title>Envisat RA2 Range Cross-Calibration</dc:title>
</cp:coreProperties>
</file>